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A00-7A5A-4D25-8D24-1C31134C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24E-B0F0-49E0-B602-44336DC2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361-3941-43E2-84E5-DE64443B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D6D-CC11-404A-ABE6-56A0A66B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DDF-1E15-4CA7-9194-6C588EBA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128-E9E6-4AEA-8533-70E2D304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A63-67AD-42C2-8819-72F57648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2B3-C261-4BB6-B8DD-C30429C4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094-281F-4FA5-9C1B-47E6450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446-3F67-471E-8853-B3415D8F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489-6C61-464A-B696-4B6AADB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B48-8509-4FA8-8A11-EA09021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4B6-8C21-4702-89FE-0B4984D7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304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457200"/>
            <a:ext cx="297180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إليك رفعتُ عينيَّ – يا ساكنَ السموات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كما أن عيونَ العبيدِ إلى أيدي مواليهم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6214415eDIwaFNgfZ_ph" descr=""/>
          <p:cNvPicPr/>
          <p:nvPr/>
        </p:nvPicPr>
        <p:blipFill>
          <a:blip r:embed="rId1"/>
          <a:stretch/>
        </p:blipFill>
        <p:spPr>
          <a:xfrm>
            <a:off x="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148621aZKcNdfpQu_ph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10080" y="228600"/>
            <a:ext cx="350532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ما أن عينيَّ الأَمَةِ إلى سيِّدَتِ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ذلك عيونُنا إلى الربِّ إلهِ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تى يتحنَّنَ علينا – تحنَّنْ علينا يا ربّ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حنَّنْ علينا فقد طالما امتلأنا هوانا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215561trgpRaNsdy_ph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883908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الما امتلأت نفوسنا من هُزُءِ المترف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هانَةِ المتكبر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07:33:32Z</dcterms:created>
  <dc:creator>SUZANNE.MD</dc:creator>
  <dc:description/>
  <dc:language>en-US</dc:language>
  <cp:lastModifiedBy>USER</cp:lastModifiedBy>
  <dcterms:modified xsi:type="dcterms:W3CDTF">2003-01-28T15:07:06Z</dcterms:modified>
  <cp:revision>2</cp:revision>
  <dc:subject/>
  <dc:title>PowerPoint Presentation</dc:title>
</cp:coreProperties>
</file>